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D59-CE9F-40A9-B3C5-00A72F99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A61-2361-4B44-AFC9-B8198AC5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A49-C854-4A18-B156-23856B3A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7AA-9215-4ECC-9719-4A795562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E550D-7590-4F96-877B-4F28FE20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BA633-7226-4437-AFB2-A2987E89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B81C8-CBD5-4385-8DDA-7B135EF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EE015-9552-4A81-B239-A1057785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3A64A-4DBA-44D2-9EFA-0497D4F4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C5342-88E0-4C5C-87D6-67C96700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533C8-3C4D-4CB2-8338-80E99852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5B5-D920-40EF-A476-72863554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B938E-03C7-49B3-9F56-4170DE92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9225C-9F3F-4FD0-8DA2-67AEC1A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06D3C-DE33-4960-8185-95E82C7D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ED4DC-FF29-4D60-9E5C-1BFBD799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4A43C-0C0D-48E4-9234-5164218B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DB5DB-FF7E-4DA2-80D2-55458803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8B79-C080-48DD-B5FC-495F9ABF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E8A7-2130-4DC1-A668-B8001AE4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C7E4-0727-4819-906B-F3839FB1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621B-5C5C-4E47-BC1A-E9D2808E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129-15C4-4E3E-A1AD-DE72869B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0D87-3908-416B-B28A-8412BCFC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8F9B-31BD-4C49-BBF1-5379FC25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6277-849F-4A5C-A4E5-5DF7432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281E-DD36-427A-9BFE-4C4E13B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BCF6-BD9A-4E51-A1EF-610AE922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B70D-E053-45FA-9441-061342F1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78AF-B797-4699-9D15-11BE7D16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40688-9EFF-4EBD-8746-6B00DAD2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19B5F-7FEB-407C-AA02-BBD4264A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D0474-E99B-4A38-B3BF-7BBA4D30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2B7-ED91-4C6E-AC21-584D8DDB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98DE1-0A2C-4EB0-9CF5-018A7DEC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AD19A-AE24-4265-A7C3-431BFDA4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9BD52-23D1-48C3-B4A0-71CC2D38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2FF6C-CB71-45DF-A67F-142886C8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43FD3-1B36-4650-833F-F746142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4C9F4-1EAA-400E-8E38-276F2147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57E39-D220-4563-A118-677DA6D4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FE0960-652D-45E1-BDD8-A8F77227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E29FB-5D0F-441D-B6D5-A1B933A6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07598-D39C-4E2C-8BF1-BFF0D489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9E1-94FB-448F-B989-A2FE2F3F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4A899-EFB2-4D49-95AD-88D43621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8C48B-E9D9-4659-AFF2-CF34B286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11C0C-953D-41E2-90CF-6C166F0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BDC49-883B-49DF-8099-2CBDAE75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6A838-6D3C-4584-8C37-9F606195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22E0C-69EA-4057-AE06-E795CD3D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B745F-AC5B-4919-A992-D24E3E7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1985B-A5B4-40D3-BF3F-15B12F67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8CD2F-F383-4103-9E91-F53CD435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C757A-638A-4DA6-9816-ED2D6CE1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1CE-9065-49DA-B142-13D82290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A485A-0F6A-4FBB-B4B6-CC309F93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18294-1C2C-4AAE-B558-5A2DC308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66EC3-2BD3-403F-8796-C139D0F5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A26CF-E13A-47C1-B4DB-E8D5C690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84DBD-9A26-4FBB-B62B-783FF517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C704F-BF49-4D13-A3D9-E3ED3EDC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157D9-F412-4487-98AD-28657EA9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47A7B-CA7F-48C6-B1AE-2E6C94E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8537F-4A7F-4BB3-BCFE-8B6BF5DD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26BE5-1037-496D-8E9B-53CF91FC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CD1-D2F1-413E-9634-AE38FA59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C5A01-9D09-4E91-829B-436923C1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CF8F9-ACE0-4155-8AE1-032CB45D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E75DA-16B2-454F-8858-287E01BB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90A-828C-4D7E-8B55-2698F7A3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FC7-6E24-49D8-80A5-A7009DF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737-A867-41EE-A4F1-DB6C37B0E7F1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816E-5347-4B84-BFAB-120F13F0AFCB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06A2-5EC4-4198-BEE9-AB4A9D1618DF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8599-F604-4906-976C-9CBB648F9470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96B1-7D35-4A40-B015-104514B2A8D3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A8D5-B599-4630-B49E-2942D9156F51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6483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Автор: Насибова А.Т,</a:t>
            </a:r>
            <a:br>
              <a:rPr sz="3200"/>
            </a:b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студентка 4 курса филологического факультета КГПИ</a:t>
            </a:r>
            <a:br>
              <a:rPr sz="3200"/>
            </a:b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2011 г.</a:t>
            </a:r>
            <a:endParaRPr b="0" lang="en-US" sz="3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ff"/>
                </a:solidFill>
                <a:latin typeface="Arial"/>
              </a:rPr>
              <a:t>Образ Афины Паллады в искусстве</a:t>
            </a:r>
            <a:endParaRPr b="0" lang="en-US" sz="4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266920" cy="3647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244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Где скрывается мудрость?</a:t>
            </a:r>
            <a:endParaRPr b="0" lang="en-US" sz="3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9900"/>
                </a:solidFill>
                <a:latin typeface="Arial"/>
              </a:rPr>
              <a:t>Основной вопрос: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335268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3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9900"/>
                </a:solidFill>
                <a:latin typeface="Times New Roman"/>
              </a:rPr>
              <a:t>Проблемные вопросы: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a3d8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Какова роль мифологии в мировом искусстве? 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a3d8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Какова роль Афины Паллады в культуре античности?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6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76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Century Schoolbook"/>
              </a:rPr>
              <a:t>Дидактическая</a:t>
            </a:r>
            <a:r>
              <a:rPr b="0" lang="ru-RU" sz="4400" spc="-1" strike="noStrike">
                <a:solidFill>
                  <a:srgbClr val="ff9900"/>
                </a:solidFill>
                <a:latin typeface="Century Schoolbook"/>
              </a:rPr>
              <a:t> цель проекта:</a:t>
            </a:r>
            <a:endParaRPr b="0" lang="en-US" sz="44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ff"/>
                </a:solidFill>
                <a:latin typeface="Bookman Old Style"/>
              </a:rPr>
              <a:t>Приобщение учеников к искусству.</a:t>
            </a:r>
            <a:endParaRPr b="0" lang="en-US" sz="4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Century Schoolbook"/>
              </a:rPr>
              <a:t>Методические задачи:</a:t>
            </a:r>
            <a:endParaRPr b="0" lang="en-US" sz="48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Познакомить с античными мифами.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Дать представление об античной культуре.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Воспитать интерес к культуре античности.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Развить познавательную активность.</a:t>
            </a: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09120" y="17524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оклада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Фоторепортажа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очинения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езентации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18160" indent="-218160" algn="just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Результаты исследования могут быть представлены в виде:</a:t>
            </a:r>
            <a:endParaRPr b="0" lang="en-US" sz="36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9900"/>
                </a:solidFill>
                <a:latin typeface="Arial"/>
              </a:rPr>
              <a:t>Темы: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 Паллада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Образ Афины Паллады в живописи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Образ Афины Паллады в скульптуре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Образ Афины Паллады в архитектуре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Century Schoolbook"/>
              </a:rPr>
              <a:t>Этапы проведения проекта</a:t>
            </a: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Выбор темы и форм её проведения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Самостоятельная работа учащихся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Защита проекта.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родолжительность проекта  2 недели. </a:t>
            </a:r>
            <a:endParaRPr b="0" lang="en-US" sz="32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2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2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2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2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Times New Roman"/>
              </a:rPr>
              <a:t>Информационные ресурсы</a:t>
            </a:r>
            <a:endParaRPr b="0" lang="en-US" sz="44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2640" y="2179440"/>
            <a:ext cx="7543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Рождение Афины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. Галерея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 в искусстве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Arial"/>
              </a:rPr>
              <a:t>Афина Паллада. История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1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фина</cp:lastModifiedBy>
  <dcterms:modified xsi:type="dcterms:W3CDTF">2011-04-12T06:13:23Z</dcterms:modified>
  <cp:revision>18</cp:revision>
  <dc:subject/>
  <dc:title>   Добрые Боги Древнего Египта</dc:title>
</cp:coreProperties>
</file>